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0017C-FE62-4A5A-A85A-8A8DD3DBCE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564EB-5F66-4DC0-9657-40E28CFD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233FB-9CBA-49C1-A0E2-2EB3AF08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6507B-0218-40AB-BDC8-527071B54E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17B99-ACC7-46B8-8FDA-4F66E735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13B72-6C2B-43C6-B2E3-2145AE94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7BCC2-B010-48B7-BFC7-080EEA2C68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B017B2-9F20-4913-A74E-33887189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57F16-DA71-438B-99BA-2E13CA5E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BA69C-00C6-4D15-B531-DC28C44C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FC6CD-8CD3-4783-B622-83B431BF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D75A89-7BE6-4192-A84A-9B8FB45E5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08E62-6708-45AB-BE69-B899F29AC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715830-5F93-4403-BBBB-F3669FAA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CC3157-0163-4CB6-971C-F64EAF5F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4C8DCD-4E08-4F26-9306-4981E72E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A2785-FAB7-4966-BA4C-FFE6E67E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4CC3CE-D241-4508-9873-12B3C2BD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D7F22-06A9-40B8-81F9-E95B6EBB73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916FF-B4CB-4128-9190-796D8EF99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9FEA2-C1D0-44CA-9594-E0BE6A756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997B7-5190-4460-8D18-A2040C24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4D120-5926-466B-8668-B9E9B24B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52D96-753D-40B5-B08E-0AC01192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0E29-06C0-4D02-97B7-BD4A07D43822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2C2F-D22E-4079-9879-C7BBBFEDBF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3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D2D6-8C98-4D37-9E7B-99DACC1FC4DB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4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0BDD-6968-4F27-9E8C-85E293C8047F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eee.joelillie.com/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oe Lilli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ndidate for 2010 IEEE President Elec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066320" y="39621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Focus o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Region 8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Venice, Ita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26 April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52280" y="56386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Presentation Overview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 As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Me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Busi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kill Asse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ship exper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provide direction and gui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build consensus among diverse constitu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ten and oral communication skills and organizational 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 interpersonal skills with sensitivity to cross-cultural and transnational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conduct effective negotiations involving financial and policy mat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Qualific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 years experience in telecommunications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EEE Member since joining as a student in 197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 at the local, region and international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t the OU Board level since 1998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ing my sixth year on the IEEE Board of Direc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seven years on the IEEE Finance Committee, two years as Chair and IEEE Treas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ly Vice President – Member &amp; Geographic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llingness to serve IEEE, the profession, and the common g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Member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ng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ety Member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ng members toge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Life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Busines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ff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rastructure Eval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e Excell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St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Oper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ategic Planning and Alig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/ Staff Relation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nsus buil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ignment of the Board and the Executive Dir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m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tribution to the success of the IEE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sideration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I would appreciate your help, your support and your vote.</a:t>
            </a:r>
            <a:br>
              <a:rPr sz="3200"/>
            </a:br>
            <a:br>
              <a:rPr sz="3200"/>
            </a:br>
            <a:r>
              <a:rPr b="1" lang="en-US" sz="32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ieee.joelillie.com</a:t>
            </a:r>
            <a:br>
              <a:rPr sz="3200"/>
            </a:br>
            <a:r>
              <a:rPr b="1" lang="en-US" sz="3200" spc="-1" strike="noStrike" u="sng">
                <a:solidFill>
                  <a:srgbClr val="005582"/>
                </a:solidFill>
                <a:uFillTx/>
                <a:latin typeface="Verdana"/>
              </a:rPr>
              <a:t>j.lillie@ieee.org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17:28:39Z</dcterms:created>
  <dc:creator>cjankows</dc:creator>
  <dc:description/>
  <dc:language>en-US</dc:language>
  <cp:lastModifiedBy>IEEE</cp:lastModifiedBy>
  <dcterms:modified xsi:type="dcterms:W3CDTF">2009-04-17T19:54:24Z</dcterms:modified>
  <cp:revision>170</cp:revision>
  <dc:subject/>
  <dc:title>TITLE</dc:title>
</cp:coreProperties>
</file>